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F5210-0003-46CC-8AA7-8820EAE4B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9E398-D908-468B-9D8D-74A2451F1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5FA08-1B1A-48B3-909F-83661C810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BFB74-2986-4514-92DE-7182982E3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0850ED-23F4-4342-AF20-318907B713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5C871-9B56-4180-97C4-88CACCD23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8F31A-9C3C-4AEE-BBD5-F98435D4D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F8AD4-5E0A-4F2E-B22C-14A20DFD8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AFC1F-747E-4D91-A693-1F5F0B1AC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6ACA0-A6B3-4210-8E15-C69D04814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36ADD-7081-4B45-B5A7-219F98267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F0A2B-00E7-481E-900A-88D7FAFED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79724-1E5F-4457-B626-B0115C1B4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01192-204A-4B21-BAD9-3521D8826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82759-68BE-4397-A28E-ED6205AF1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F0E78-A001-4058-A61A-A1C439108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5DE26-9526-4671-9992-0B48E84A8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E5925-70DC-41DE-8E1C-A04E2F63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593A2-2D24-41E9-A6CE-6BE987D11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6DF26-97B2-41EB-9677-5FBDFA6D3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95091-DFE8-40E9-82D0-084E49CCF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B2BD0-F660-437A-AAF0-38BFC75C1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83A81-D8E9-4C3A-8F5F-3FA1363AD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F623A-B1C4-474A-A930-CBF54C733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1C5F-3C75-4FFF-AD2E-86444AE34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C89B-5C8A-4E9D-8C98-7A074E5598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Salem Witch Trail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657600"/>
            <a:ext cx="6400800" cy="2286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ten by:</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becca Gilli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y Sniadecki</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leigh Kennedy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na Marcano</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Accused </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rah Goo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dget Bishop-</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becca Nur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John Proctor</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like most, did not fall into the mass hyster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er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achusetts Bay Colon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em Villa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sex Count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en</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9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fliction, accusation, arrest, Jan-May 1692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ls, Executions, June -Sept 1692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688 &amp;1689, the King of England and the imperial governor of MA  (Sir Edmond Andros) were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flict in the Church</a:t>
            </a:r>
            <a:endParaRPr b="1" lang="en-US" sz="4400" spc="-1" strike="noStrike">
              <a:solidFill>
                <a:srgbClr val="feec94"/>
              </a:solidFill>
              <a:latin typeface="Times New Roman"/>
            </a:endParaRPr>
          </a:p>
        </p:txBody>
      </p:sp>
      <p:sp>
        <p:nvSpPr>
          <p:cNvPr id="127" name=""/>
          <p:cNvSpPr txBox="1"/>
          <p:nvPr/>
        </p:nvSpPr>
        <p:spPr>
          <a:xfrm>
            <a:off x="457200" y="1599840"/>
            <a:ext cx="8229600" cy="4530600"/>
          </a:xfrm>
          <a:prstGeom prst="rect">
            <a:avLst/>
          </a:prstGeom>
          <a:noFill/>
          <a:ln w="0">
            <a:noFill/>
          </a:ln>
        </p:spPr>
        <p:txBody>
          <a:bodyPr anchor="t">
            <a:normAutofit fontScale="91000"/>
          </a:bodyPr>
          <a:p>
            <a:pPr marL="312120" indent="-3121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having 3 different preachers from 1672- 1688 Samuel Parris was hired as preacher of the Salem Church after “private negotiations” in June 1689</a:t>
            </a:r>
            <a:endParaRPr b="0" lang="en-US" sz="3200" spc="-1" strike="noStrike">
              <a:solidFill>
                <a:srgbClr val="ffffff"/>
              </a:solidFill>
              <a:latin typeface="Times New Roman"/>
            </a:endParaRPr>
          </a:p>
          <a:p>
            <a:pPr marL="312120" indent="-3121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ctober, 1689 the Parris family was given the parsonage and the land around it even though the Villagers had agreed in 1681 that the parsonage would not be transferred to specific people. It was supposed to be left available for the ministry forev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37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9" name=""/>
          <p:cNvSpPr txBox="1"/>
          <p:nvPr/>
        </p:nvSpPr>
        <p:spPr>
          <a:xfrm>
            <a:off x="457200" y="685440"/>
            <a:ext cx="8229600" cy="5445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Feb. 1689, Salem Villagers ask to separate Salem Town and Salem Vill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ysteria in Salem Ignites</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 few young girls claimed to be possessed a flame of paranoia and chaos was ignited throughout Sal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irls accused women in Salem county of bewitching them and claimed the women were witch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exposed to the women the young girls exhibited odd behaviors such as foaming and bleeding from the mouth and fits of seizur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own of Salem became aware of this and was emerged into a state of mass cha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150 people were accused and arrested for practicing witchcraf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ccused were jailed and tortured while they awaited tri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lergy set up a special court in Salem  to try those who were accus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urt was judged by Samuel Sewall, John Hathorne, and William Stought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 the accused were sentenced to be hang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1T13:40:00Z</dcterms:created>
  <dc:creator>aps13.sniabryt</dc:creator>
  <dc:description/>
  <dc:language>en-US</dc:language>
  <cp:lastModifiedBy>Kevin Gillie</cp:lastModifiedBy>
  <dcterms:modified xsi:type="dcterms:W3CDTF">2011-10-24T10:17:50Z</dcterms:modified>
  <cp:revision>5</cp:revision>
  <dc:subject/>
  <dc:title>The Salem Witch Trails</dc:title>
</cp:coreProperties>
</file>